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217-5F70-462F-9938-F008D423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2C1-C679-4EF3-A9E9-EDF68B55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3F5-682F-45C0-8C87-B9D08ADC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E291-E281-46BB-A3F8-7A50CCC3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DE84-4B63-47F2-A35D-D5B48165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24D6-5373-4336-AFC4-839FDDC5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03C5-BF65-41B8-8D36-52C20D35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3D07-E834-42C2-B32A-9192D2DA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5453-5461-4386-AF97-C1183B39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3DED-5B54-48DC-A99F-1E028B8B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B04D-DE0D-47F8-90AF-0D9A7B31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E8E-53C0-4CCE-A698-05989FE2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34FF-AD9D-4D7A-A5ED-BB4F9A09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7AE4-4178-44FE-9872-0897B406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FF89-6536-41E3-921B-A17AA2EF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48CC-542E-4679-91FD-51802BD8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C4A7-3489-4B62-8411-148A5A01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2FA-66EF-4B60-87C8-3AA239E1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070-8668-4A14-AB82-72751777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900-3E69-4240-A144-58728D69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B9A-8C3F-4186-B44B-7D0E0687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B4B-8C4A-47EC-AC4A-67857744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932-B9B8-47BA-A38C-2013948B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12B-B69D-44D8-B1F1-64A4B5AA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F99E-134A-47D1-A0A8-9A068685F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878D-33FB-4D36-BE43-F81597A9CB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Connie Campbell</cp:lastModifiedBy>
  <dcterms:modified xsi:type="dcterms:W3CDTF">2002-05-31T21:44:21Z</dcterms:modified>
  <cp:revision>14</cp:revision>
  <dc:subject/>
  <dc:title>Jeopardy</dc:title>
</cp:coreProperties>
</file>